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81F5-8CB6-4F97-91A7-A2F127C7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’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E2E-E954-4DF6-BDA4-92756552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D2E-AD9F-4FA5-8C05-24574B1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926-291B-4CDF-834E-8F842ABB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562-4B61-49D2-9F5B-D3922BCF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6FD-6A2F-4E87-B941-B9573FF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248-2936-4BCB-BBF6-DDC6ED78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EFD-FC26-4740-9647-25E445E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564-08BD-443E-9015-912CE5B4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0DF-F033-4EDE-A0F2-AEA34A4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2F5-F3D4-4E55-AFA6-D55B1AF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A6D-C29F-4FD2-951B-08E79FC3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C1A-7DF1-41E1-91D5-7CECCD2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32ED-0692-4CA2-99AC-4025C6C6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alc.org/view/16375-Animation-17-A-gene-is-made-of-DNA-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naftb.org/15/animation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6375-Animation-17-A-gene-is-made-of-DNA-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 &amp; Wil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1 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&amp;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&amp; hap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n acidic substance with a high concentration of 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5/anima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4400" y="1523880"/>
            <a:ext cx="332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3-11-08T18:47:56Z</dcterms:modified>
  <cp:revision>124</cp:revision>
  <dc:subject/>
  <dc:title>Molecular Genetics</dc:title>
</cp:coreProperties>
</file>